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AC8-88E9-47A7-AB8B-F86EEE29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131-DAEC-4BA1-8A08-2E4FE5DB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7B2-8DCD-4342-8532-68172E68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855-EFF7-4B52-BE86-4544422B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2AC-B9E7-4102-AEB8-DD468F75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FC5-B581-4BB2-BF04-E00FA7EE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98F-4FF5-430D-9583-9C2B0012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E1A-AE16-4745-9AF1-19753733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D0E-687F-4DD6-9094-8F6A7AD1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01F-F6F4-446E-9980-FA1A13E7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AE1-5BDA-439B-9EBD-6BBF2BC2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85A-55B6-46F7-B99A-0281A194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9D24-2634-453B-A65B-66D4485DD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7320" y="517680"/>
            <a:ext cx="88344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7120" y="152280"/>
            <a:ext cx="5662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76320"/>
            <a:ext cx="570852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320" y="843120"/>
            <a:ext cx="89913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320" y="768240"/>
            <a:ext cx="8991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9:37:51Z</dcterms:created>
  <dc:creator>swellman</dc:creator>
  <dc:description/>
  <dc:language>en-US</dc:language>
  <cp:lastModifiedBy>swellman</cp:lastModifiedBy>
  <dcterms:modified xsi:type="dcterms:W3CDTF">2010-04-16T19:39:06Z</dcterms:modified>
  <cp:revision>1</cp:revision>
  <dc:subject/>
  <dc:title>Slide 1</dc:title>
</cp:coreProperties>
</file>